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12.wmf" ContentType="image/x-wmf"/>
  <Override PartName="/ppt/media/image24.jpeg" ContentType="image/jpeg"/>
  <Override PartName="/ppt/media/image3.jpeg" ContentType="image/jpeg"/>
  <Override PartName="/ppt/media/image4.gif" ContentType="image/gif"/>
  <Override PartName="/ppt/media/explode.wav" ContentType="audio/x-wav"/>
  <Override PartName="/ppt/media/image7.jpeg" ContentType="image/jpeg"/>
  <Override PartName="/ppt/media/breeze.wav" ContentType="audio/x-wav"/>
  <Override PartName="/ppt/media/applause.wav" ContentType="audio/x-wav"/>
  <Override PartName="/ppt/media/image8.wmf" ContentType="image/x-wmf"/>
  <Override PartName="/ppt/media/image13.wmf" ContentType="image/x-wmf"/>
  <Override PartName="/ppt/media/image10.jpeg" ContentType="image/jpeg"/>
  <Override PartName="/ppt/media/image9.wmf" ContentType="image/x-wmf"/>
  <Override PartName="/ppt/media/image1.gif" ContentType="image/gif"/>
  <Override PartName="/ppt/media/image11.jpeg" ContentType="image/jpeg"/>
  <Override PartName="/ppt/media/image23.wmf" ContentType="image/x-wmf"/>
  <Override PartName="/ppt/media/image14.jpeg" ContentType="image/jpeg"/>
  <Override PartName="/ppt/media/image25.wmf" ContentType="image/x-wmf"/>
  <Override PartName="/ppt/media/image15.jpeg" ContentType="image/jpeg"/>
  <Override PartName="/ppt/media/laser.wav" ContentType="audio/x-wav"/>
  <Override PartName="/ppt/media/image5.wmf" ContentType="image/x-wmf"/>
  <Override PartName="/ppt/media/image16.jpeg" ContentType="image/jpeg"/>
  <Override PartName="/ppt/media/image17.wmf" ContentType="image/x-wmf"/>
  <Override PartName="/ppt/media/image2.jpeg" ContentType="image/jpeg"/>
  <Override PartName="/ppt/media/image18.wmf" ContentType="image/x-wmf"/>
  <Override PartName="/ppt/media/image19.jpeg" ContentType="image/jpeg"/>
  <Override PartName="/ppt/media/image20.jpeg" ContentType="image/jpeg"/>
  <Override PartName="/ppt/media/image6.jpeg" ContentType="image/jpeg"/>
  <Override PartName="/ppt/media/image21.wmf" ContentType="image/x-wmf"/>
  <Override PartName="/ppt/media/image2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4D1-D8B1-4EA3-88C9-8EF6D5ED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9F6D-9BC8-4A11-A7CA-12C6911A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238-F9F6-4E95-8772-A527A5E9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9BC-559B-4B84-9B9F-92F333F9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40AF-8216-4BC1-93E3-5452DD15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FEC5-E93E-421E-BFBA-04211497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9E03-DBEA-4D5E-A433-B268E7E5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EA40-5060-45CF-A5BC-F2A2E7FC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BA99-86A6-4B94-984E-E8DAABCB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4BAB-FAF8-4FA7-828E-2D750FBD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B938-F793-46A8-9AC9-F04B7E6C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255-444A-4262-B098-9A06600B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9401-B466-4876-A353-D031EAD2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3146-8601-4338-A2D8-5BAA779B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B8CB-6CB8-4FFC-ACCD-7D2446C3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B8D7-D99C-4AEE-BBE8-9A248949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BBF5-05DE-4503-A015-C0B2DB0C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6DE-30D9-4021-9DA6-594578E8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B03-7E8D-4406-B964-E1C99422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70B-D51A-4B2A-BCA5-D392EB02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379-EF69-478A-B7DC-D2CC4C1A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5BF-4827-429F-B35C-0FC47F90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371-6F14-4120-9061-71D234EF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991-3A8D-4EB4-8A02-852228F1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F549-AFA1-4458-9F27-EBD9A80418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9325-760D-4551-9CCE-0D26313805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harcourtschool.com/activity/states_of_matter/" TargetMode="External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26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9308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Caveman"/>
              </a:rPr>
              <a:t>THE THREE STATES</a:t>
            </a:r>
            <a:br>
              <a:rPr sz="4000"/>
            </a:br>
            <a:r>
              <a:rPr b="1" lang="en-US" sz="4400" spc="-1" strike="noStrike">
                <a:solidFill>
                  <a:srgbClr val="010199"/>
                </a:solidFill>
                <a:latin typeface="Caveman"/>
              </a:rPr>
              <a:t> </a:t>
            </a:r>
            <a:r>
              <a:rPr b="1" lang="en-US" sz="3200" spc="-1" strike="noStrike">
                <a:solidFill>
                  <a:srgbClr val="010199"/>
                </a:solidFill>
                <a:latin typeface="Caveman"/>
              </a:rPr>
              <a:t>OF</a:t>
            </a:r>
            <a:br>
              <a:rPr sz="3200"/>
            </a:br>
            <a:r>
              <a:rPr b="1" lang="en-US" sz="4400" spc="-1" strike="noStrike">
                <a:solidFill>
                  <a:srgbClr val="010199"/>
                </a:solidFill>
                <a:latin typeface="Caveman"/>
              </a:rPr>
              <a:t>MATTER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Caveman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38280" y="37335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Kristen ITC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Kristen ITC"/>
              </a:rPr>
              <a:t>Mary Beth Ma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Kristen ITC"/>
              </a:rPr>
              <a:t>Wise Primary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hysical changes in mat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467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 Physical change is a change in how matter looks, but not the kind of matter is it 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x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4000">
    <p:split dir="in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PHYSICAL CHANG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5840" y="2284560"/>
            <a:ext cx="3902400" cy="3124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553080" y="1523880"/>
            <a:ext cx="1549440" cy="1816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248520" y="4343400"/>
            <a:ext cx="1911240" cy="2189160"/>
          </a:xfrm>
          <a:prstGeom prst="rect">
            <a:avLst/>
          </a:prstGeom>
          <a:ln w="0">
            <a:noFill/>
          </a:ln>
        </p:spPr>
      </p:pic>
    </p:spTree>
  </p:cSld>
  <p:transition advTm="6000"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emical changes in mat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Matter is form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81640" y="2970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split dir="in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CHEMICAL CHANG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04840" y="1785960"/>
            <a:ext cx="2743200" cy="1816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94200" y="1600200"/>
            <a:ext cx="1748160" cy="21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733920" y="4419720"/>
            <a:ext cx="2095560" cy="193968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Let’s watch a video clip about matter!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States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6477120" y="53341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60199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go to the next sli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199"/>
                </a:solidFill>
                <a:latin typeface="Arial"/>
              </a:rPr>
              <a:t>Is this a solid, a liquid, or a gas?</a:t>
            </a:r>
            <a:br>
              <a:rPr sz="3600"/>
            </a:b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Can you find more than one type of matter in any of the pictures?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2154240" cy="1398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21556800">
            <a:off x="6705360" y="441936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80880" y="441972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962520" y="1447920"/>
            <a:ext cx="1647720" cy="1176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124080" y="3505320"/>
            <a:ext cx="3127320" cy="3127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400800" y="2971800"/>
            <a:ext cx="1873080" cy="1225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6553080" y="1371600"/>
            <a:ext cx="2210040" cy="1469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152280" y="1295280"/>
            <a:ext cx="1584360" cy="2133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10199"/>
                </a:solidFill>
                <a:latin typeface="Arial"/>
              </a:rPr>
              <a:t>Is this a physical change or a chemical change?</a:t>
            </a:r>
            <a:r>
              <a:rPr b="0" lang="en-US" sz="29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Can you find more than one physical or chemical change in the pictures?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343400" y="5029200"/>
            <a:ext cx="1797120" cy="1454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109600" cy="16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1982520" cy="1968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7010280" y="4114800"/>
            <a:ext cx="1833840" cy="162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523880" y="1905120"/>
            <a:ext cx="23320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Three States of Matter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Project f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ing SOL Instruction to Teach Multiple Intelli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y Beth Ma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se Primary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4716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5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What is matter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324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atter is anything that has mass and takes up space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t Looks (Shiny ,Dull, Color, etc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t Feels (Hard, Soft, Rough , Smooth, etc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t Smells (Sweet, Sharp, Terrible, No Smell, etc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t Sounds (Loud, Soft, Echo, No Sound, etc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t Does (Bounce, Stretch, Tear, Break, Magnetism etc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8000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b2b2b2"/>
                </a:solidFill>
                <a:latin typeface="FlashDLig"/>
              </a:rPr>
              <a:t>SOLIDS</a:t>
            </a:r>
            <a:endParaRPr b="0" lang="en-US" sz="1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3886200"/>
            <a:ext cx="915840" cy="1982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935760" y="2284560"/>
            <a:ext cx="1449360" cy="2190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51040" y="2135160"/>
            <a:ext cx="2192400" cy="218916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  <p:sndAc>
      <p:stSnd>
        <p:snd r:embed="rId4" name="laser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6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68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I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lid is matter that has that has definite size and shap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Put a sneaker in a box.  It stays the s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b2b2b2"/>
                </a:solidFill>
                <a:latin typeface="FlashDLig"/>
              </a:rPr>
              <a:t>Liquids</a:t>
            </a:r>
            <a:endParaRPr b="0" lang="en-US" sz="129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2160" y="2692440"/>
            <a:ext cx="2860560" cy="1936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84960" y="2441520"/>
            <a:ext cx="2203200" cy="335124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3" name="breeze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LIQUID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quid takes the shape of any contai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Pour juice into a glass.  The juice will take on the shape of the g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86320" y="2756880"/>
            <a:ext cx="1807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b2b2b2"/>
                </a:solidFill>
                <a:latin typeface="FlashDLig"/>
              </a:rPr>
              <a:t>GAS</a:t>
            </a:r>
            <a:endParaRPr b="0" lang="en-US" sz="1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154080" cy="1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6781680" cy="38862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2" name="explode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 is matter that has no definite shape.  Gases take the shape of whatever container they are i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The air all around us is a g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6:14:32Z</dcterms:created>
  <dc:creator>mmasters</dc:creator>
  <dc:description/>
  <dc:language>en-US</dc:language>
  <cp:lastModifiedBy>WinuE</cp:lastModifiedBy>
  <dcterms:modified xsi:type="dcterms:W3CDTF">2009-12-28T20:18:12Z</dcterms:modified>
  <cp:revision>14</cp:revision>
  <dc:subject/>
  <dc:title>THE THREE STATES  OF MATTER  </dc:title>
</cp:coreProperties>
</file>